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1CA9-6D87-4E3A-A317-10E4EDFB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FE71-B444-4D3C-897E-4549D59C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FE5-36AF-4BC4-AFF7-8E0B149A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1E43-B54C-44A7-B75E-ACB5FBEA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3E4F-5C02-447E-9CC1-88533EB2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2421-9C19-42EF-A571-23832559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D85E-170A-448F-AA1D-F74EFE44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F1F9-5534-41B4-9923-E05D55DB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8064-C193-495E-B409-EB9EBC52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3356-DCCB-4D22-9A0D-CF6ED994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EE25-E0B3-4E7C-AD33-26573069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B38-E2B0-40B8-881F-39223302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11CE-C3EB-43AA-BF36-4B036CE6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86E0-1D0F-45B0-A079-2C4F8B1B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7D3D-CC56-4F85-966F-47C00B30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2482-7433-4D64-BC56-48364FEC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AA48-93A1-44B1-BAB7-A82E5DBC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5C6AF-2D17-4CA5-B67D-83AD43D2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D2C65-F250-456C-943A-0BA6E43E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75532-A9DB-4AD9-BEF8-1BBF7AE7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37281-EB91-4CC0-97FE-F2BDBA17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4F9D3-B418-40C4-96D4-D774BD30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0705-BBBB-40B6-AF32-FF5E0602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48922-7AD7-4530-9EC9-1CA777E8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BB020-76E8-4A87-B55D-F0E936FD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8EAAD-60DC-493D-99F5-E134EDB1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A1F88-8264-427F-A9FA-79E9E462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9F765-EE92-4B43-AA8A-894EF20C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16C20-11D2-4B1D-B5A3-44FFA5B0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19DD4-21B9-470B-841D-248D1E7A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BD12C-F9DA-4F41-B3ED-6804198C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06D60-AECC-459C-A015-E28D2DDC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E1248-7672-4FAB-B234-54813527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A9B-308D-43AD-BF5C-859541F1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464F4-1EF1-4DF0-AE41-E0AB71ED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0D908-C397-4280-9B3B-396E1EB7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1F503-73CD-4A25-981E-397AF451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0D079-3D1C-45BD-A1AC-A61BAF85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954E3-0F49-49B5-A6AF-CC532198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0E27D-73AD-40CA-8D40-C81F2C59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C2F58-9E6B-4994-8C24-35408F1F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26B12-F992-4201-83FD-08F7E12E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FC21D-CC4F-47B9-B1E8-AB3EE212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8B73B-5426-4F2C-92D8-984E0C3A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22D7-24A5-44DF-B550-6568B4F0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782C3-1C07-4DAD-9B27-EC80F0A7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892A1-D8B3-4CDC-837F-BBF665A2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2FB26-08D8-4DBE-8C1E-E7400239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F839D-CDA3-4CA9-A696-DE1B9F48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D42E7-3B23-466B-A886-008286DA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1E0C9-BDDD-49D7-820A-B275DE34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5E3CF-A751-499E-B609-6F07930A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0B793-BE14-4529-85A3-9BF2F8D4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1DAF1-8F83-4C41-A48E-80599FB8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D6036-E7F2-436C-954F-2149E49A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5B9-1345-4DFA-8754-8CC10389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746A9-9BC0-46D6-AD35-04B0C0CF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D55-07D4-456E-8C04-FECDF5DF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80D1-0D8B-4595-8FA9-4D08573E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B6E-9EF9-405F-B447-F83A6DC0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7DC0-B143-4BC7-BAFE-78A805137BD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AA1F-46D8-4687-8F68-4B74B4E502A7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F182-78F0-4EEE-AFB0-0BB74D28C5A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C5B8-D6B0-4E22-A488-509C066D43CA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5FCB-9201-4381-B8CC-8E47C42E30A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11956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722160" y="3684240"/>
            <a:ext cx="7772400" cy="1887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Заместитель директора по ВР МОУ «СОШ с.Анастасьино Калининского района Саратовской области»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такое семья? Как она возникает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ие бывают семьи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ля чего нужна семья ребёнку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Хорошо ли, если в семье живут несколько поколений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ое значение имеет семья для государства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3924360" y="4437000"/>
            <a:ext cx="29512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72520" cy="11764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На что и клад, коли в семье лад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Где любовь и совет – там и горя нет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Вся семья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месте, так и душа на месте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семья крепка ладом»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езентация Рогановой Марии «Семья Рогановых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www.church-schekino.ru/forum/viewtopic.php?f=15&amp;t=344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ru.picscdn.com/domain/alf-print.ru/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zestxkas.blog.ru/feeds?year=2010&amp;month=07&amp;day=8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kazan.olx.ru/8-927-405-98-59-iid-148454307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www.vartovchonok.ru/forum/viewtopic.php?f=36&amp;t=2005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549360"/>
            <a:ext cx="72388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Семья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емья объединяет людей, которые являются кровными родственниками (мать и дети, сестры и братья) или близкими людьми (муж и жена, свекровь и невестка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1476360" y="2924280"/>
            <a:ext cx="51832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Таблица 3" descr=""/>
          <p:cNvPicPr/>
          <p:nvPr/>
        </p:nvPicPr>
        <p:blipFill>
          <a:blip r:embed="rId1"/>
          <a:stretch/>
        </p:blipFill>
        <p:spPr>
          <a:xfrm>
            <a:off x="927000" y="927000"/>
            <a:ext cx="7650360" cy="1719360"/>
          </a:xfrm>
          <a:prstGeom prst="rect">
            <a:avLst/>
          </a:prstGeom>
          <a:ln w="0">
            <a:noFill/>
          </a:ln>
        </p:spPr>
      </p:pic>
      <p:pic>
        <p:nvPicPr>
          <p:cNvPr id="225" name="Таблица 4" descr=""/>
          <p:cNvPicPr/>
          <p:nvPr/>
        </p:nvPicPr>
        <p:blipFill>
          <a:blip r:embed="rId2"/>
          <a:stretch/>
        </p:blipFill>
        <p:spPr>
          <a:xfrm>
            <a:off x="3139920" y="2925720"/>
            <a:ext cx="3151440" cy="1109880"/>
          </a:xfrm>
          <a:prstGeom prst="rect">
            <a:avLst/>
          </a:prstGeom>
          <a:ln w="0">
            <a:noFill/>
          </a:ln>
        </p:spPr>
      </p:pic>
      <p:pic>
        <p:nvPicPr>
          <p:cNvPr id="226" name="Таблица 5" descr=""/>
          <p:cNvPicPr/>
          <p:nvPr/>
        </p:nvPicPr>
        <p:blipFill>
          <a:blip r:embed="rId3"/>
          <a:stretch/>
        </p:blipFill>
        <p:spPr>
          <a:xfrm>
            <a:off x="212760" y="3359160"/>
            <a:ext cx="1719360" cy="804960"/>
          </a:xfrm>
          <a:prstGeom prst="rect">
            <a:avLst/>
          </a:prstGeom>
          <a:ln w="0">
            <a:noFill/>
          </a:ln>
        </p:spPr>
      </p:pic>
      <p:pic>
        <p:nvPicPr>
          <p:cNvPr id="227" name="Таблица 7" descr=""/>
          <p:cNvPicPr/>
          <p:nvPr/>
        </p:nvPicPr>
        <p:blipFill>
          <a:blip r:embed="rId4"/>
          <a:stretch/>
        </p:blipFill>
        <p:spPr>
          <a:xfrm>
            <a:off x="66600" y="4359240"/>
            <a:ext cx="2865600" cy="803160"/>
          </a:xfrm>
          <a:prstGeom prst="rect">
            <a:avLst/>
          </a:prstGeom>
          <a:ln w="0">
            <a:noFill/>
          </a:ln>
        </p:spPr>
      </p:pic>
      <p:pic>
        <p:nvPicPr>
          <p:cNvPr id="228" name="Таблица 8" descr=""/>
          <p:cNvPicPr/>
          <p:nvPr/>
        </p:nvPicPr>
        <p:blipFill>
          <a:blip r:embed="rId5"/>
          <a:stretch/>
        </p:blipFill>
        <p:spPr>
          <a:xfrm>
            <a:off x="2925720" y="4638600"/>
            <a:ext cx="2359080" cy="811440"/>
          </a:xfrm>
          <a:prstGeom prst="rect">
            <a:avLst/>
          </a:prstGeom>
          <a:ln w="0">
            <a:noFill/>
          </a:ln>
        </p:spPr>
      </p:pic>
      <p:pic>
        <p:nvPicPr>
          <p:cNvPr id="229" name="Таблица 9" descr=""/>
          <p:cNvPicPr/>
          <p:nvPr/>
        </p:nvPicPr>
        <p:blipFill>
          <a:blip r:embed="rId6"/>
          <a:stretch/>
        </p:blipFill>
        <p:spPr>
          <a:xfrm>
            <a:off x="5284800" y="4638600"/>
            <a:ext cx="3073320" cy="811440"/>
          </a:xfrm>
          <a:prstGeom prst="rect">
            <a:avLst/>
          </a:prstGeom>
          <a:ln w="0">
            <a:noFill/>
          </a:ln>
        </p:spPr>
      </p:pic>
      <p:pic>
        <p:nvPicPr>
          <p:cNvPr id="230" name="Таблица 10" descr=""/>
          <p:cNvPicPr/>
          <p:nvPr/>
        </p:nvPicPr>
        <p:blipFill>
          <a:blip r:embed="rId7"/>
          <a:stretch/>
        </p:blipFill>
        <p:spPr>
          <a:xfrm>
            <a:off x="6997680" y="3638520"/>
            <a:ext cx="1792440" cy="1231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C:\Program Files\Microsoft Office\MEDIA\OFFICE12\Bullets\BD21300_.gif"/>
          <p:cNvPicPr/>
          <p:nvPr/>
        </p:nvPicPr>
        <p:blipFill>
          <a:blip r:embed="rId8"/>
          <a:stretch/>
        </p:blipFill>
        <p:spPr>
          <a:xfrm>
            <a:off x="4572000" y="2500200"/>
            <a:ext cx="285840" cy="330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C:\Program Files\Microsoft Office\MEDIA\OFFICE12\Bullets\BD21300_.gif"/>
          <p:cNvPicPr/>
          <p:nvPr/>
        </p:nvPicPr>
        <p:blipFill>
          <a:blip r:embed="rId9"/>
          <a:stretch/>
        </p:blipFill>
        <p:spPr>
          <a:xfrm rot="8722800">
            <a:off x="1909080" y="3354120"/>
            <a:ext cx="330120" cy="285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C:\Program Files\Microsoft Office\MEDIA\OFFICE12\Bullets\BD21300_.gif"/>
          <p:cNvPicPr/>
          <p:nvPr/>
        </p:nvPicPr>
        <p:blipFill>
          <a:blip r:embed="rId10"/>
          <a:stretch/>
        </p:blipFill>
        <p:spPr>
          <a:xfrm rot="7431000">
            <a:off x="2763720" y="4093920"/>
            <a:ext cx="330120" cy="285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Program Files\Microsoft Office\MEDIA\OFFICE12\Bullets\BD21300_.gif"/>
          <p:cNvPicPr/>
          <p:nvPr/>
        </p:nvPicPr>
        <p:blipFill>
          <a:blip r:embed="rId11"/>
          <a:stretch/>
        </p:blipFill>
        <p:spPr>
          <a:xfrm>
            <a:off x="4429080" y="4143240"/>
            <a:ext cx="285840" cy="330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C:\Program Files\Microsoft Office\MEDIA\OFFICE12\Bullets\BD21300_.gif"/>
          <p:cNvPicPr/>
          <p:nvPr/>
        </p:nvPicPr>
        <p:blipFill>
          <a:blip r:embed="rId12"/>
          <a:stretch/>
        </p:blipFill>
        <p:spPr>
          <a:xfrm rot="3337200">
            <a:off x="5906520" y="4165200"/>
            <a:ext cx="330480" cy="285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C:\Program Files\Microsoft Office\MEDIA\OFFICE12\Bullets\BD21300_.gif"/>
          <p:cNvPicPr/>
          <p:nvPr/>
        </p:nvPicPr>
        <p:blipFill>
          <a:blip r:embed="rId13"/>
          <a:stretch/>
        </p:blipFill>
        <p:spPr>
          <a:xfrm rot="2980800">
            <a:off x="6694200" y="3505320"/>
            <a:ext cx="33012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549360"/>
            <a:ext cx="72388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лены семьи ведут общее хозяйство , живут в одном доме, объединяют свои доходы и расходуют их вместе. Они вместе воспитывают детей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2556000" y="2924280"/>
            <a:ext cx="474804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333360"/>
            <a:ext cx="4330800" cy="61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емья образуется когда мужчина и женщина вступают в брак. Основой семьи является чувство любви, которое возникает между ними, желание жить вместе, растить и воспитывать дет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5003640" y="1484280"/>
            <a:ext cx="3143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12760" y="26208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052640"/>
            <a:ext cx="7238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емья – обязательная часть любого общества, государств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лавное её предназначение – чтобы не иссякал род человеческий, появлялись всё новые и новые поколения, развивалось общество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>
            <a:off x="3924360" y="3789360"/>
            <a:ext cx="369396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d75b7e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лавная обязанность семьи – воспитание дет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осударство помогает семье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еспечивает возможность семье получить жильё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еспечивает возможность устроить ребенка в дошкольное учреждение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аёт бесплатное образование и др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вухпоколенные семьи  – вместе живут мать, отец и их дет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рехпоколенные – вместе живут дети их родители, дедушки и бабуш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емью где по каким то причинам отсутствует один из родителей называют неполной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188640"/>
            <a:ext cx="7238880" cy="62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ебята,  расскажите о вашей семь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66672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7:38:32Z</dcterms:created>
  <dc:creator>Admin</dc:creator>
  <dc:description/>
  <dc:language>en-US</dc:language>
  <cp:lastModifiedBy>Admin</cp:lastModifiedBy>
  <dcterms:modified xsi:type="dcterms:W3CDTF">2012-12-02T10:07:05Z</dcterms:modified>
  <cp:revision>16</cp:revision>
  <dc:subject/>
  <dc:title>Семья ячейка общества. </dc:title>
</cp:coreProperties>
</file>