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22FC-2B0A-47D9-91E3-072F4EB6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3EB6-6464-4AA5-BE69-1B0544FF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AE99F0-866D-4F0D-85A7-8D8EB680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119DF6-1714-4750-9D39-43B8A762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FDDD20-685C-4573-B987-3CE29DA8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0F8B14-3D67-4B12-8322-B08375A3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E1EB3-3C20-4396-86B9-5A2ABEF8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9C4670-AF7B-4661-AEE0-9DB97F8C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AC31CD-2EB0-4269-8D33-33DB8AE9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1EB8AD-A47A-4DD2-8BB7-F2C2661A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ED498-1B0C-49A6-B843-611E63F1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91D357-665D-434F-AD3F-E936199E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AE94-9758-4042-86E2-069CAC5C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83D23C-50CC-477E-BADC-838553AF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4EAECF-7663-402A-8D30-31F8E344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F4223C-2A97-4E96-AC72-EC67B796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AE257E-815D-4BEF-9EEB-76FE9291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4899B6-0AA0-48BF-ABBD-5D687616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B3DF7B-242C-4D5B-ABD8-2C6A0258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0CF1F0-9C01-47AD-9CC7-8736576D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EAD66D-E274-4CE5-8CCE-B0A9366F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588925-2D54-4648-B38C-CF8F5D38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5DF4DB-8A07-4FB8-832B-023150FC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C7C2-9321-422B-B8AE-B8EC0019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C49942-5569-41AD-8FF5-056B4CA7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5F8C0-3626-41C4-8255-BBAFC26B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D8019-6F11-4685-A4B1-654B77C7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1103C-B1DB-4C76-8401-937C8848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A3225-17AF-46AE-A838-1F283AD9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183B4-CF28-4D22-8250-2C2B59CC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9C662-225A-4659-9D9D-7909C44D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A7D2C-8945-4738-B4CD-BF49FA78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CF428-2F56-4FED-A534-9901BC5B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F40B7-6392-4460-A8F9-EF4ED154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3BD9-3AF5-4E33-BABD-F3B58CEE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EC880-147A-461C-AEA0-D1D0F3E2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55166-4777-4E3E-A967-819DD570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96278-90A6-4BFA-8965-6244AB5B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1ED81C-AED7-4058-ADC1-DE5D3E6F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C4AF87-E811-4FD2-890F-F47B2456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2FC5AF-091A-414A-844D-92FFEA9A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D370FE-EB60-43CC-897F-E2D6AA7F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444ECC-3F9B-43E9-A432-3D735301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CADB5F-6EC9-4267-9A65-96D76E63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6F7433-9EFD-4D43-8CEA-5708EDFA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892E-B26A-48E4-BAA1-5FF6D0E9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30B195-7F9F-4D9D-9F45-6FD54E70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D170F-A31B-496B-93FF-0E885CEA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BE5B27-2F57-4BCD-8379-E7C9BEBC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7F41CA-175A-4430-A3FA-9888C999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513557-313A-401A-8C60-28599B44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671B-E532-46B9-8562-83406737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AD3C-A910-4C3B-BE1E-0C59F08E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E678-FC3E-490C-86D0-B10ADFE1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BA32-FE6F-4690-ADD6-F9BF0FEC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366E-6246-490E-AB52-D8D78658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DDD-93E9-4CB5-89BE-9286ADEA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CD6C-6436-4561-9BAC-A3E33A7B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5394-D478-49AA-8AB6-44CFB2F9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44DF-C079-4569-AEFD-56C2E4D8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8A41-C8EA-474B-8589-9909DC29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B1F9-D9A3-41FF-A0E1-D3DB2A98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ACC21-17DF-43A2-A4E4-70101E3E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316B2-4DBA-4B70-8FCC-2C795861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DE754-B348-42D9-90E2-E91A6328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41B2B-DC08-4BF1-A0E7-B6F15CB6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D7D6B-A1D3-4A36-A4B7-1C1484B6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2AA1-B30A-4497-BD77-68C443B8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205EF-6CF2-4AD2-81D2-94C0E62C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FB932-6D45-4000-ABF5-E76EB06E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9789C-F3AA-4B0D-8DE0-29995078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76DE5-B250-4242-B7FD-A8144E51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E8F04-7495-48B4-9566-0E7E9DCF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38F4D-E697-47F0-A687-1BFE1730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C68CA-8E84-4F24-B4FD-BB15DC92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39ACA-7F2B-4912-8F14-080D30C9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BA152-40BC-461B-B350-5B439D08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9A5BC-D475-4372-9BF1-AFD64495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E57D-D453-4A6D-B829-07160729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06DEA-805F-4CE8-B431-6B613FEF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04318-87A2-4F63-A536-61E1DE80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EEE41-3AFD-4414-9531-D0E69D3E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A1786-903D-49D0-A5C7-232CF378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60D1F-6D68-47FB-8FE4-B860482C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98979-F957-40CB-B7CA-28DAF10A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03B42-EF38-4309-AFD2-35AEC2FA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6C279-2477-4195-91C8-AC9EBBF1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6BD56-F647-4E25-89B5-D8F90793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CFAA4-D51F-43D5-BBA7-1C07DF1E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E404-6205-4E41-A366-FD2D7D84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E32AB-2BE1-4924-A2A6-87E21706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EE6F8-6CE7-49A6-A196-8A8FD43F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0EE7F-633E-4713-B8F7-9155B506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DBCCF-B706-41B7-8577-0713AA08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CCE7B-8898-4054-AE89-D01DCA2E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A74D4-AED0-4733-8F23-3EB083F0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559C1-1F88-468A-A5ED-08DCD922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08325-6137-4A39-876D-366F09F0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4745F-BA69-4437-BEAF-D17F3B64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A4FCF-B47E-49B1-A21E-29F3A658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9B2A-98FA-4253-9FEF-2246A2D9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749EE-2CFF-4459-AA76-E0B65ADA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F68F8-9833-4A7C-B440-4A9ABEB2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1AB26-6392-4A5D-AEA6-748E170B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54A29-8B60-4C9B-89CF-E181D99E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FAA78-3A8C-46B2-8A7E-FA087CE6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8D687-7CAD-4C5B-BE13-659F4A2E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00A4C-9012-40D6-8373-B18E275E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BB98D-83D7-4586-8BEE-CAD4F2F6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C6F20-504C-4104-A1CA-E6F7598B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E8B2E-936D-4FF4-99D9-32212ABE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3857-94AB-4414-B860-CBEB5ED4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878DB-3B2D-495A-9364-E081A377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AE3A7-45EC-4C67-BC42-D05A3CCA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86FC2-EB65-4AE9-B336-22418F7A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D0E57-2678-4AA5-BA47-6AEE5626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7D745-E53F-4EDC-834D-F1B939E8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38194-5B87-4AF4-AFC5-465024B7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0EDA8-0DAD-4335-97FA-7490CBD0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23DA5-2BB1-4D60-B30F-8D383F58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4E865-7DCF-4681-8869-B94F7061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DA306-B5DC-4F4E-9EC9-7EB3F1C0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F014-47CD-46A9-B83D-2B813D23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53C87-682F-4130-9838-8DCEA6E6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4B02D-EF41-45D9-B148-406A201B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4854E-25B6-43BD-9D27-6C85918A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F9722-4006-4D1D-B820-637EFD8A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6FB49-6ADD-41B0-9C3C-E3A747D8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84EDE-E7E5-4935-8736-903F2B8B9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5581F-F4DF-43AE-9F75-FC8F2D55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8BC0B-F3C0-4EFF-8A44-E96C11D3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196A2-0DCD-430E-B9A7-99A93623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99CFE-D62F-49F7-9A85-1975254A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1638-41A8-401E-A4BC-7F3AA673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67104-FE05-4DBE-A73B-662A502D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4CBBE-426E-41E8-BFD8-967FC364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3BC1D-9953-4169-B54D-1A28C048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A2C87-1D0B-422C-9A2D-B0D5FF30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4A8EB-133E-444B-AE4F-2EE086FE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CE87F-7D73-4D9B-8522-BB03BBE4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3FC29-D8C7-4076-AB37-2A44B37C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8F98D9-9C23-428A-A67A-68D100C2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D162D8-972F-4DF5-B620-9C0D80DC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85C024-E580-4C62-8FE6-E8240AC7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E293-7759-4D79-BC5A-8760A663592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E1BF-978D-4B4D-AEF6-E765F3FC80A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FD75-AB9E-4632-8AF1-84905FC4F2E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0A06-2628-4B2A-B657-000F43D63A9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0023-9693-4E32-ACA5-0277E771213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9D4B-8D17-4EF4-B9EF-F724E7FE56C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2437-5DF6-4D8B-B752-9102FBBCAF4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1939-006F-464C-8F4D-0B59EDFF0D6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8E3B-71BE-449C-9C9B-D6042479210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8F9B-604F-4D9C-BC0C-9ADA9EBDC84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A112-8459-4961-BD9B-DD40493A6C88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4F2A-2937-48F5-8DBA-1D7DADA99E7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211280" y="152280"/>
            <a:ext cx="447516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3716280"/>
            <a:ext cx="8229600" cy="23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eorgia"/>
              </a:rPr>
              <a:t>Семья Рогановых. 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4140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7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                </a:t>
            </a: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ПАПА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7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                </a:t>
            </a: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МАМА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1" name="Picture 2" descr="C:\Users\User\Desktop\программы\п.jpeg"/>
          <p:cNvPicPr/>
          <p:nvPr/>
        </p:nvPicPr>
        <p:blipFill>
          <a:blip r:embed="rId1"/>
          <a:stretch/>
        </p:blipFill>
        <p:spPr>
          <a:xfrm>
            <a:off x="1187280" y="2637000"/>
            <a:ext cx="2376720" cy="24476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" descr="C:\Users\User\Desktop\программы\в.jpeg"/>
          <p:cNvPicPr/>
          <p:nvPr/>
        </p:nvPicPr>
        <p:blipFill>
          <a:blip r:embed="rId2"/>
          <a:stretch/>
        </p:blipFill>
        <p:spPr>
          <a:xfrm>
            <a:off x="5796000" y="2492280"/>
            <a:ext cx="2160720" cy="295272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36197"/>
                </a:solidFill>
                <a:latin typeface="Georgia"/>
              </a:rPr>
              <a:t>    </a:t>
            </a:r>
            <a:r>
              <a:rPr b="1" lang="ru-RU" sz="3000" spc="-1" strike="noStrike">
                <a:solidFill>
                  <a:srgbClr val="536197"/>
                </a:solidFill>
                <a:latin typeface="Georgia"/>
              </a:rPr>
              <a:t>У меня есть папа, его зовут Николай и мама, её зовут Люба. </a:t>
            </a:r>
            <a:r>
              <a:rPr b="0" lang="ru-RU" sz="3000" spc="-1" strike="noStrike">
                <a:solidFill>
                  <a:srgbClr val="536197"/>
                </a:solidFill>
                <a:latin typeface="Georgia"/>
              </a:rPr>
              <a:t>                  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Заголовок 4" descr=""/>
          <p:cNvPicPr/>
          <p:nvPr/>
        </p:nvPicPr>
        <p:blipFill>
          <a:blip r:embed="rId1"/>
          <a:stretch/>
        </p:blipFill>
        <p:spPr>
          <a:xfrm>
            <a:off x="225360" y="762120"/>
            <a:ext cx="2743200" cy="3681360"/>
          </a:xfrm>
          <a:prstGeom prst="rect">
            <a:avLst/>
          </a:prstGeom>
          <a:ln w="0">
            <a:noFill/>
          </a:ln>
        </p:spPr>
      </p:pic>
      <p:sp>
        <p:nvSpPr>
          <p:cNvPr id="615" name="Стрелка вниз 8"/>
          <p:cNvSpPr/>
          <p:nvPr/>
        </p:nvSpPr>
        <p:spPr>
          <a:xfrm>
            <a:off x="1116000" y="1760400"/>
            <a:ext cx="431640" cy="100836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оугольник 1"/>
          <p:cNvSpPr/>
          <p:nvPr/>
        </p:nvSpPr>
        <p:spPr>
          <a:xfrm>
            <a:off x="5219640" y="463680"/>
            <a:ext cx="230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е основное время провожу с Мамой. Она работает в школе учител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3" descr=""/>
          <p:cNvPicPr/>
          <p:nvPr/>
        </p:nvPicPr>
        <p:blipFill>
          <a:blip r:embed="rId2"/>
          <a:stretch/>
        </p:blipFill>
        <p:spPr>
          <a:xfrm>
            <a:off x="6472080" y="1770120"/>
            <a:ext cx="487440" cy="10303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" descr=""/>
          <p:cNvPicPr/>
          <p:nvPr/>
        </p:nvPicPr>
        <p:blipFill>
          <a:blip r:embed="rId3"/>
          <a:stretch/>
        </p:blipFill>
        <p:spPr>
          <a:xfrm>
            <a:off x="539640" y="3141720"/>
            <a:ext cx="2737080" cy="28083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"/>
          <p:cNvPicPr/>
          <p:nvPr/>
        </p:nvPicPr>
        <p:blipFill>
          <a:blip r:embed="rId4"/>
          <a:stretch/>
        </p:blipFill>
        <p:spPr>
          <a:xfrm>
            <a:off x="4788000" y="3284640"/>
            <a:ext cx="3960720" cy="47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                 </a:t>
            </a: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Детские год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1" name="Picture 2" descr="C:\Users\User\Desktop\а.jpeg"/>
          <p:cNvPicPr/>
          <p:nvPr/>
        </p:nvPicPr>
        <p:blipFill>
          <a:blip r:embed="rId1"/>
          <a:stretch/>
        </p:blipFill>
        <p:spPr>
          <a:xfrm>
            <a:off x="1979640" y="1628640"/>
            <a:ext cx="4032360" cy="4608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6" descr="C:\Users\User\Desktop\а.jpeg"/>
          <p:cNvPicPr/>
          <p:nvPr/>
        </p:nvPicPr>
        <p:blipFill>
          <a:blip r:embed="rId1"/>
          <a:stretch/>
        </p:blipFill>
        <p:spPr>
          <a:xfrm>
            <a:off x="4803840" y="5035680"/>
            <a:ext cx="1785960" cy="39859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" descr="C:\Users\User\Desktop\в.jpeg"/>
          <p:cNvPicPr/>
          <p:nvPr/>
        </p:nvPicPr>
        <p:blipFill>
          <a:blip r:embed="rId2"/>
          <a:stretch/>
        </p:blipFill>
        <p:spPr>
          <a:xfrm>
            <a:off x="853920" y="1590840"/>
            <a:ext cx="2291040" cy="55530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4" descr="C:\Users\User\Desktop\SDC10575 - копия.JPG"/>
          <p:cNvPicPr/>
          <p:nvPr/>
        </p:nvPicPr>
        <p:blipFill>
          <a:blip r:embed="rId3"/>
          <a:stretch/>
        </p:blipFill>
        <p:spPr>
          <a:xfrm>
            <a:off x="2693880" y="255600"/>
            <a:ext cx="2652840" cy="273204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464e62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6" name="Picture 3" descr="C:\Users\User\Desktop\гк.jpeg"/>
          <p:cNvPicPr/>
          <p:nvPr/>
        </p:nvPicPr>
        <p:blipFill>
          <a:blip r:embed="rId4"/>
          <a:stretch/>
        </p:blipFill>
        <p:spPr>
          <a:xfrm>
            <a:off x="5791320" y="2060640"/>
            <a:ext cx="2786040" cy="28033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5" descr="C:\Users\User\Desktop\п.jpeg"/>
          <p:cNvPicPr/>
          <p:nvPr/>
        </p:nvPicPr>
        <p:blipFill>
          <a:blip r:embed="rId5"/>
          <a:stretch/>
        </p:blipFill>
        <p:spPr>
          <a:xfrm>
            <a:off x="2146320" y="3968640"/>
            <a:ext cx="1724040" cy="34689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7" descr="C:\Users\User\Desktop\го.jpeg"/>
          <p:cNvPicPr/>
          <p:nvPr/>
        </p:nvPicPr>
        <p:blipFill>
          <a:blip r:embed="rId6"/>
          <a:stretch/>
        </p:blipFill>
        <p:spPr>
          <a:xfrm>
            <a:off x="3255840" y="2639880"/>
            <a:ext cx="2773440" cy="49071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"/>
          <p:cNvPicPr/>
          <p:nvPr/>
        </p:nvPicPr>
        <p:blipFill>
          <a:blip r:embed="rId7"/>
          <a:stretch/>
        </p:blipFill>
        <p:spPr>
          <a:xfrm rot="20454000">
            <a:off x="5519880" y="1099800"/>
            <a:ext cx="2808000" cy="1868400"/>
          </a:xfrm>
          <a:prstGeom prst="rect">
            <a:avLst/>
          </a:prstGeom>
          <a:ln w="0">
            <a:noFill/>
          </a:ln>
        </p:spPr>
      </p:pic>
      <p:grpSp>
        <p:nvGrpSpPr>
          <p:cNvPr id="630" name="Овал 4"/>
          <p:cNvGrpSpPr/>
          <p:nvPr/>
        </p:nvGrpSpPr>
        <p:grpSpPr>
          <a:xfrm>
            <a:off x="6072120" y="4359240"/>
            <a:ext cx="3205080" cy="2554200"/>
            <a:chOff x="6072120" y="4359240"/>
            <a:chExt cx="3205080" cy="2554200"/>
          </a:xfrm>
        </p:grpSpPr>
        <p:pic>
          <p:nvPicPr>
            <p:cNvPr id="631" name="Овал 4" descr=""/>
            <p:cNvPicPr/>
            <p:nvPr/>
          </p:nvPicPr>
          <p:blipFill>
            <a:blip r:embed="rId8"/>
            <a:stretch/>
          </p:blipFill>
          <p:spPr>
            <a:xfrm>
              <a:off x="6072120" y="4359240"/>
              <a:ext cx="3205080" cy="25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 rot="381600">
              <a:off x="6632280" y="4856040"/>
              <a:ext cx="2084400" cy="15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Georgia"/>
                </a:rPr>
                <a:t>Актив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Овал 5"/>
          <p:cNvSpPr/>
          <p:nvPr/>
        </p:nvSpPr>
        <p:spPr>
          <a:xfrm>
            <a:off x="1908000" y="549360"/>
            <a:ext cx="2340000" cy="1366920"/>
          </a:xfrm>
          <a:prstGeom prst="ellipse">
            <a:avLst/>
          </a:prstGeom>
          <a:solidFill>
            <a:srgbClr val="d16349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Упря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Овал 6"/>
          <p:cNvSpPr/>
          <p:nvPr/>
        </p:nvSpPr>
        <p:spPr>
          <a:xfrm rot="19892400">
            <a:off x="1350720" y="5732280"/>
            <a:ext cx="1780920" cy="1125360"/>
          </a:xfrm>
          <a:prstGeom prst="ellipse">
            <a:avLst/>
          </a:prstGeom>
          <a:solidFill>
            <a:srgbClr val="d5d1cf"/>
          </a:solidFill>
          <a:ln w="9360">
            <a:solidFill>
              <a:srgbClr val="8c7b7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об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Овал 7"/>
          <p:cNvGrpSpPr/>
          <p:nvPr/>
        </p:nvGrpSpPr>
        <p:grpSpPr>
          <a:xfrm>
            <a:off x="-212760" y="3097080"/>
            <a:ext cx="2846520" cy="2346480"/>
            <a:chOff x="-212760" y="3097080"/>
            <a:chExt cx="2846520" cy="2346480"/>
          </a:xfrm>
        </p:grpSpPr>
        <p:pic>
          <p:nvPicPr>
            <p:cNvPr id="636" name="Овал 7" descr=""/>
            <p:cNvPicPr/>
            <p:nvPr/>
          </p:nvPicPr>
          <p:blipFill>
            <a:blip r:embed="rId9"/>
            <a:stretch/>
          </p:blipFill>
          <p:spPr>
            <a:xfrm>
              <a:off x="-212760" y="3097080"/>
              <a:ext cx="2846520" cy="23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 rot="795000">
              <a:off x="345600" y="3643200"/>
              <a:ext cx="1730520" cy="12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Georgia"/>
                </a:rPr>
                <a:t>Творческ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86920" y="1700280"/>
            <a:ext cx="7355160" cy="2665440"/>
          </a:xfrm>
          <a:prstGeom prst="rect">
            <a:avLst/>
          </a:prstGeom>
          <a:solidFill>
            <a:srgbClr val="8fb08c"/>
          </a:solidFill>
          <a:ln w="20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eorgia"/>
              </a:rPr>
              <a:t>        </a:t>
            </a:r>
            <a:r>
              <a:rPr b="0" lang="ru-RU" sz="3300" spc="-1" strike="noStrike">
                <a:solidFill>
                  <a:srgbClr val="ffffff"/>
                </a:solidFill>
                <a:latin typeface="Georgia"/>
              </a:rPr>
              <a:t>Любимые занятия</a:t>
            </a:r>
            <a:br>
              <a:rPr sz="3300"/>
            </a:br>
            <a:r>
              <a:rPr b="0" lang="ru-RU" sz="3300" spc="-1" strike="noStrike">
                <a:solidFill>
                  <a:srgbClr val="ffffff"/>
                </a:solidFill>
                <a:latin typeface="Georgia"/>
              </a:rPr>
              <a:t>   Танцы , спорт ,прогулки ,              катания на лыжах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0:54:52Z</dcterms:created>
  <dc:creator>User</dc:creator>
  <dc:description/>
  <dc:language>en-US</dc:language>
  <cp:lastModifiedBy>админ2</cp:lastModifiedBy>
  <dcterms:modified xsi:type="dcterms:W3CDTF">2011-11-23T15:32:34Z</dcterms:modified>
  <cp:revision>29</cp:revision>
  <dc:subject/>
  <dc:title>Моя семья</dc:title>
</cp:coreProperties>
</file>